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5" descr="gf dgzer yuy koulkùml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C1DB393-15C4-41CE-816C-35A703282D3C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1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0" descr="gh fgh kùlre gf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484360" y="692280"/>
            <a:ext cx="68770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Arial"/>
              </a:rPr>
              <a:t>8.6  Canadas Global Connec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1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istor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storical ties are those that link us with other nations and peoples with whom we share a common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Common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is an association of 54 nations that share a commo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ties come from being ruled by the same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istor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Common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English language spoken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icket fans, tea drinkers, soccer players all have connections to the British Empire which spread these sports an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en Victoria (city in Can, state in A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olves individuals and companies doing business all over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is a major trading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country in the world exports more of the goods and services it produces tha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exported nearly 40% of its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ss Domestic Product (GDP)  value of all goods and services produced in a country in on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2009, Canada exported almost $430 billion in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2009 we imported about $375 billion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North American Free Trad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me into effect on January 4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AFT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2205000"/>
            <a:ext cx="3132000" cy="313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132000" y="3948120"/>
            <a:ext cx="4464360" cy="29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44593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s members agreed that goods made in one of these countries may be sold without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riff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import taxes) in the other memb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has a relatively small population, yet is a major player on the international political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played a prominent role in the First and Second World Wars and other milit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takes part in most major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eacekeeping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fforts, in which Canadian troops maintain a truce between hostile ar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897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has many global 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day we live in a global world where we can watch live sports coverage taking place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580000" y="4164120"/>
            <a:ext cx="3429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participates heavily in the 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organization was formed after the Second World Warn to help prevent future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 organization where most countries can work out thei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91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was one of the original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contributed 40 million for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1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day the UN has man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ies to promote internation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helps poor nations increase your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ies to reduce international conflict and increase internation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serving human rights is a major part of the UN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UN focuses on countries that suffer from war and famine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se efforts include provi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mergency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king Efforts to resolve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viding peac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viding agreements to guarantee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5140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 Agreemen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al Declaration of Human R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stablish basic human r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tion on the Rights of the Ch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stablish the basic rights of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tion against Genoc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an genocide (the destruction of a national ethnic, racial or religious grou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eck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17 #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18 # 9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19 #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20 #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21 # 13,14,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eat international d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stores are full of goods made in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92000" y="2276640"/>
            <a:ext cx="2901960" cy="217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435640" y="2276640"/>
            <a:ext cx="3057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nation includes millions of people who left other countries to make Canada their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3068640"/>
            <a:ext cx="4572000" cy="378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36734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ians have excelled internationally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us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79640" y="2776680"/>
            <a:ext cx="61214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43000" y="981000"/>
            <a:ext cx="6858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332000" y="1447920"/>
            <a:ext cx="6769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tical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97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siness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76360" y="1905120"/>
            <a:ext cx="590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Jason</cp:lastModifiedBy>
  <dcterms:modified xsi:type="dcterms:W3CDTF">2011-01-13T12:34:09Z</dcterms:modified>
  <cp:revision>40</cp:revision>
  <dc:subject/>
  <dc:title>Earth of Money</dc:title>
</cp:coreProperties>
</file>